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E67-B3FD-4477-8226-A1AA7D5D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EBD-9748-47F1-8896-E7D4BF9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16D94-628B-4EF2-A9C2-9C176FFA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F9372-4CD9-4FEB-814A-1A2ED3ED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FC8FD-9156-4C8C-A17A-DB3DD86D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DBE95-F99C-4F0F-BF2A-1F4D82E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D787-F570-423B-B01C-BD321234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4D552-07D8-420A-8977-A2342C63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0CA93-DBBC-44C0-9E9C-E4A6763E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A23BC-A469-415A-B71C-68499FBE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06339-C209-4230-BD9E-21EAEAF7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2D003-60BA-49F8-88F1-EF1CCD15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1E8-5AF5-4511-93FC-FC27E8F6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05391-A6B8-4192-A473-978F7590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6FC5D-A0E2-4427-BD63-D142256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C2355-607F-4524-A187-E3FB712A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66918-AF9B-4FAD-832F-25F0701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EAAE1-C31A-4921-AB1A-9E03E237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ADDB8-3363-4053-AD1A-1023A0E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4FFDE-BD32-458F-BE31-2B8EAC0A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98988-26D2-4B76-81DB-D5D85C3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BBE63-4C71-4556-B1DE-305244BD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54524-D5AD-435D-828A-0AE2078E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979-BA47-4511-82C3-0E587157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87A40-CF4D-40EB-89EE-7769ECBB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53803-BB15-4C9E-8CE1-1BB529F4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8E23D-D143-4AFC-BA2A-EC96726D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3023A-6E38-4146-B81D-D24B8C06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F1E57-341C-49AB-92F2-624F9D4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597B2-1A21-4F64-8F11-DF42E843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D5F92-5075-4358-9E85-B923C29F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48960-9607-46E0-8597-C03A659E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FCCDB-3268-4C1A-B371-F2F2A8C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D6B2B-D9D8-4B0C-9209-D7CB1DC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D70A-F63C-40E4-9670-DC18F627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70B95-26F2-4129-BF22-8989C2D9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9168B-148C-42C7-92A2-34173660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D8781-FB87-4958-A4B1-06D1A731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D29EF-947E-4C4F-964F-1F881BDC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6032F-5305-421C-97AB-22ACB7D8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1DB63-BA51-4249-A2D6-080CB6EC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9D205-7260-4497-9F62-0110C01C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B3E6F-99F4-4EAC-A7D1-DD9E7EE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1CB97-E308-4695-BD51-BB7BF9AC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362C9-B67C-40DD-9FE1-A0DB17A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7D43-3C17-486C-8557-4FAB4BF6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8A5AF-384E-4208-8E00-D995DFA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47AF8-5AAC-4D2B-8BE8-AAD99E9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49034-4DB7-45B3-8E04-22DABFD6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CAAFF-D990-4748-B1FF-FE210032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71745-746E-412D-9939-A0F4A226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0BB-F79C-4FFD-B446-FBAE7FC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BFF2-90ED-4D2E-B0D7-04B9BCC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7CA1-9719-4B6D-BB6E-EF0C4ADC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2187-8FF0-4EE5-AC44-F94A1451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2D2-430E-4588-BD7D-E2969838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805-9DEB-456C-84C4-C7725B95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952E-7D75-4A31-B892-81749CD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C618-2E1E-46DE-A740-25C417E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B3ED-C4E2-4F2C-A3F4-F2F49063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0403-954B-4309-9561-0EC858C4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B63C-12DE-4B30-A56C-A99F6958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D9FD-F5F7-4E6C-BA6A-0B76AC77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EEB3-9EA9-4F5C-82F5-A0FB9A8D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20EC-C39C-4985-9A34-C9D8D181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1A9E-77E4-45F2-BC1F-DC3CA78A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F2B0-A100-4657-A6BA-C267838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806-93E4-48BD-AD4A-932FB728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E131-5600-4790-99FC-5C244509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C8C7-5524-4A5D-AFBB-92C4590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4858-E1ED-4715-A1AB-17631E2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5336-DCBB-479C-84E2-655BA79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BA0B-223C-4106-9011-A61E943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513D-A9F7-4305-85D3-16DB3306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E7FC-AA10-4340-AEE9-EE62F43C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039A-4401-4757-9961-B633122F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DC3A4-3DDC-484B-8BBD-5542C3DE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11D6-08E5-4C1F-BC1D-152C4010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051-47F8-4C45-82C1-9DA7BB58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5092-73DE-4AEB-BC7E-AE41E831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9008-03E8-4EC4-8C56-A7067313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B118-00CB-4637-AC1D-3AD0EEAA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4960-5249-432F-B488-21A9DEB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04BC-4666-4F1C-8915-ADEDF6B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215F-A8E1-4883-BFBD-0B858F8A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3044-CF5D-4465-9D4E-AE7749E4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449E-8694-4600-A8C4-AE6A8786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6E8F-E216-4392-A549-60385902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79F9-048B-450B-8561-60CF2509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BB2-1070-4555-96B4-5783F390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5B46-A641-44D0-8FAE-424AE4B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B4BC-7EBF-46DC-97CF-537C05A7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8432-9E7E-4421-8370-05E8D5B7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6C304-813C-47DA-9076-03C284A6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72E42-77B1-40A5-94BF-3F2B0FB0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AA35C-E797-4E74-85CB-6E846AE4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1205-A648-4CF2-851D-A8C48D43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D770-AE90-4F91-AD08-A22198B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E930-AC91-4A33-8BA1-A7B9C501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0B9BC-815F-4C80-ABF6-05BEF87D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FA0-3838-4B0F-8C4A-B2E6F7FD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7511-5E0F-4EAC-9266-58A6A371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0672-20F6-42F3-AD1F-FFE10BC3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BFB5-9220-4181-924D-D3BA3F8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40B68-78CF-455E-B0E2-5D0763BC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7A41-7AD4-42BF-9DF5-EDF8B003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3E2EE-2787-4FD2-A02F-A80B8C4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4768-0B39-4E31-8402-C7260CBD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94F7-ACB3-49D6-A12D-9836F059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6F88-D153-4586-9870-DF4AE5D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8E6AC-AAD7-4BED-BDE3-44333AD3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D52-6C67-401F-94E6-F0F40C6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17039-2DA9-4B49-BFCE-12D89D37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8685-4E59-4042-8E94-7DFB9D45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73A5-D2F7-463F-ADF1-66C57F5C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F6DF-87D0-43CE-B113-7906EF21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7052-903D-4B71-BED3-F1181251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25A5-D01B-4A8A-A0A9-6E17480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650C3-C72A-40DF-886E-9E777FD3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0DD1-7156-4875-92AF-F5249793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A9D1F-39B1-46CC-A79B-CE03768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CEDB-B1B9-4515-A6B1-EE691941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FBB-EE2B-4A11-8F80-19D149C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A2733-9857-4373-8C85-67856EB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E42B1-53CE-4C0E-A738-0CBC73C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4FCF-E678-4A3D-94B6-1033AE60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544A5-756C-4D5A-964D-4F073CD1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21D1-89B3-44E5-83E5-0B66FC28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0958-DCDC-4BC2-A66B-A585E819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33D32-1161-4C29-95B0-F7EBCCBC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5DAB6-F6C1-452A-944F-3DE0E55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837A9-F1DA-473E-BC03-9A27A3FC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C5DB-6FE1-4559-B6B7-FAE4A041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3D4-5ADE-41D7-BF5A-DE3E943A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9A5DA-941C-4538-8BBA-2C74D42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A358D-0251-4281-B55D-C74A68B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8B18-22D3-4412-A082-E9DF9221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1359C-89B1-4A0B-8A01-834854C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143F0-7EE7-4D85-93C8-AD7D39C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064D3-7E55-4176-96CC-F477E7AF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01781-5916-4EC6-9B81-E890343B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1C8FC-B661-4C68-B85A-0D574810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BFB63-70E1-4FA2-93F1-5882B59C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C9B6F-D5FF-443B-897C-B44FEA5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68A-91FB-49A0-9E42-BCB3F1B60FF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E328-0200-479C-AEC9-7F59FF35BDE5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DCE4-F399-4966-B826-AAF3BC06927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9D30-38FB-4A88-A599-A70F5BEB287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5A9-C179-42D0-845C-64BC723148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34C-57C5-493C-8C47-9A63B37F97C9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BB98-7360-411D-89DC-DBDEE8F6DD8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F93D-44BD-496F-AAAD-A85995E58A3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3F22-CA18-4FBF-BA68-C15E33503D45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461B-22C8-480D-BF05-33D180DDEBDE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788E-BB62-4948-B8EF-0648B39FD85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3104-3EEE-4AD2-9A51-46EDDD344AD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interactiveds.com.au/software.html" TargetMode="External"/><Relationship Id="rId2" Type="http://schemas.openxmlformats.org/officeDocument/2006/relationships/hyperlink" Target="http://newtonexcelbach.wordpress.com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Analysis and Design of Arch Structures for the Oman Southern Expressw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714240" y="38577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oug Jenkins - Interactive Desig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c66"/>
                </a:solidFill>
                <a:latin typeface="Arial"/>
              </a:rPr>
              <a:t>Generate mesh – run analysi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8916840" cy="492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Or for non standard projects – transfer mesh to general purpose FEA – Strand7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039240" cy="5214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Generated mesh; needs some work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9004320" cy="5286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428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nvert arch plate elements to beam elements on section CL + offset elements</a:t>
            </a:r>
            <a:br>
              <a:rPr sz="3200"/>
            </a:b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Subdivide long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357200" y="1924200"/>
            <a:ext cx="6543720" cy="4933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428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nvert arch/soil friction elements to friction contact elements + master/slave link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2857680" y="1571760"/>
            <a:ext cx="4190760" cy="5108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374652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Split elements at construction layers;</a:t>
            </a:r>
            <a:br>
              <a:rPr sz="3200"/>
            </a:b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insert links; </a:t>
            </a:r>
            <a:br>
              <a:rPr sz="3200"/>
            </a:b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assign elements of each layer to a separate group; separate fully fixed freedom case for each laye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4191120" cy="5108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792972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Apply compaction loads to each layer as a separate load case, and live loads to the top surfa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43000" y="2786040"/>
            <a:ext cx="7257960" cy="357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Adjust model as require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5786640" cy="552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mpleted mod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085320" cy="4857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Double Arch Mod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-47520" y="1714680"/>
            <a:ext cx="9191520" cy="40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man Southern Express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mbankment up to 34 metres high over arch culverts of 20 m and 15 m sp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ighest fill over a large sp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sign challenge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nalysis and design of the arch profile to minimise bending moments and shear forces in the structure under very high soil loa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sign and detailing of skewed structures for asymmetric loa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sign of raft foundations for very high imposed loa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nalysis and design of double arch stru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Set up analysis control paramete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7753320" cy="5929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Construction Sequen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66360" cy="492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Load Facto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8775720" cy="44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Plate Properti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209520" y="2143080"/>
            <a:ext cx="8934480" cy="2254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Run the analysi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630360" y="1714680"/>
            <a:ext cx="7883280" cy="3429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Run the analysi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6591240" cy="521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View results in Strand7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665920" cy="3857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Import and analyse results in Exc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0" y="1357200"/>
            <a:ext cx="8858160" cy="5092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Plot Results and Member Capacities; Bending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000080" y="1114560"/>
            <a:ext cx="7020000" cy="5743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Reinforcement stress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7338960" cy="547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visions for high axial 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kew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win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aft fou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arison with alternative arch sha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commendations for structures under high f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rack widt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000920" cy="5591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Shear Forc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667560" cy="5162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Moment/Axial Force Interaction Diagr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667560" cy="5229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Shear Force/Axial Force Interaction Diagr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667560" cy="5295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3D Analysi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7574040" cy="5500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3D Analysis – using groups to create section view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496280" cy="5651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3D Analysis – using groups to create section view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9115560" cy="5072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omparison with other arch shap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929360" cy="5299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omparison with other arch shap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7696080" cy="5143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Comparison with other arch shapes – flat ellips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6919920" cy="5357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Project Descrip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5 km long highway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cludes 7 large precast arch underpass structures, designed and supplied by Freyssinet Internat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ch sections: 15m x 7.5m and 20m x 10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ximum fill height increased from 24m to 34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erraced retaining walls over the a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veral skew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uble arches under the highest f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RECOMMENDATIONS FOR ARCH STRUCTURES UNDER HIGH FILL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072280" cy="5572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igh axial loa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ffected by the stiffness of the foundation soils and the type of foundation system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clude the foundation soils in the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on-optimised arch profiles may give rise to very high bending moments and shear forc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lat elliptical profiles are particularly unsuited to high fil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nsider lower and upper bound stiffness parameters for both soil and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ignificant savings to raft foundations by adjusting the depth of the slab between the footing sections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ongitudinal effects may be signific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mbankments with steep side slopes or high retaining wall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tructures on steep slop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tructures on soft or variable foundation soi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42600" y="1571400"/>
            <a:ext cx="80802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c66"/>
                </a:solidFill>
                <a:latin typeface="Arial"/>
              </a:rPr>
              <a:t>More Information a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1320" y="2786040"/>
            <a:ext cx="8072280" cy="3929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interactiveds.com.au/software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://newtonexcelbach.wordpress.co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Typical 20m span double ar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42600" y="1285920"/>
            <a:ext cx="8001000" cy="5286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D, plane strain, F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del the arch, foundations and backfill within the zone of influence of the ar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asto-plastic soil model; soil stiffness and Poisson’s ratio related to confining pres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il loads are applied in stages reflecting the sequence of filling employed 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dd fill layer, then apply and remove a compaction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riction elements between the arch and the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concrete is modelled as linear ela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Set up basic arc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1479600" y="1000080"/>
            <a:ext cx="6269040" cy="585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Mesh Geomet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616880" cy="5365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214200"/>
            <a:ext cx="808056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c66"/>
                </a:solidFill>
                <a:latin typeface="Arial"/>
              </a:rPr>
              <a:t>Mesh Options, Material Properties, Loads, Paramet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428920" y="1285920"/>
            <a:ext cx="4838760" cy="5000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23:09:02Z</dcterms:created>
  <dc:creator>Doug</dc:creator>
  <dc:description/>
  <dc:language>en-US</dc:language>
  <cp:lastModifiedBy>Doug</cp:lastModifiedBy>
  <dcterms:modified xsi:type="dcterms:W3CDTF">2009-05-27T20:58:36Z</dcterms:modified>
  <cp:revision>83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032931033</vt:lpwstr>
  </property>
</Properties>
</file>