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079-6344-4296-9CC1-9C68C7C3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C21-91B0-4570-8971-12A1A894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50B15-E4FD-40ED-AEA6-5F0C581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A1445-4ED7-4200-AE62-048478C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3CFA9-97E3-4CD8-BED3-A1D15656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D3D47-41AC-4E64-B485-0EBA6F3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FAF8B-8CD4-4F63-8DCB-8EE02F0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D551C-84C2-4285-B654-54E5D75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DDA7-0B3F-4FAD-8D44-7089F13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86E5B-F064-428F-A0A7-24D8AC32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F5572-D0F0-47A1-94C6-77853270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2E3A3-56AE-4C58-BC55-0FE3115C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EB8-3653-4065-BB32-587DC7D1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E561C-65CA-4AC8-A17F-5987169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F7B17-B2EE-4582-9506-4AE10A2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0FF19-6FA1-4567-8BF6-F2BCB41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CE17-899C-4BC4-A9D5-F75A20E6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229DB-F712-416F-91E0-E3E89401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06489-8222-4A10-BD35-5BD0CA84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32A1B-EA6A-4DC8-B559-D85D439C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00388-31DF-4F35-8458-5E98EE8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2ABEA-714C-47B1-B807-B9FF9ACD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12680-506F-49F6-A87C-F60961E2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D3B-8409-451B-9199-9F578C7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43BB6-C202-4108-B002-C43FE565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F7BE0-65B4-4491-914D-D03A3CDF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283E8-5E12-4568-AB58-82F2F183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4243-212A-4113-8EEA-FE703A27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AEC6E-82FE-4F3E-A508-6E35130E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A4859-E628-4B85-AD38-F8BAB74F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144B1-39C9-4CA3-AEAE-B509E5C0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189BF-A4A2-4A6B-BEE9-FBFCC0C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B9EA9-171B-46C9-BE4E-9DFA379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B8D78-9592-468B-A3FA-FA6346FC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23EA-3F7D-40E3-8BF2-D7FB7E11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34EB-18A6-4680-A4FA-23B3328E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2F50-5949-45D8-8AA4-0B9DC3BB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9416D-4449-40C9-99E1-88C363CB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60C59-BB5B-460A-92B3-8AE41749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01FCB-6C2E-4F2D-89A4-DCA2B019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5CEC-E81F-4775-8F6E-B48A84B8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59637-4961-4722-979B-4089733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B64A-7428-4886-AB41-FBD50D4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0E774-C886-4AEF-B1D7-9FEE175A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2336D-AAFB-4C74-B846-B100545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9B5A-5689-4C01-8599-5EFA6E39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E0360-A3C2-407B-87FA-71A04FB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E775C-E4DA-4D64-9C1B-04C8DDF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09862-8988-4968-A90E-EB95CA5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50A0B-AD7F-46AD-8238-28E9D5DF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452F-8C31-4157-A94E-67136963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C578-0223-426C-A0D2-49E9D70E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48A1-A4FF-4A40-8774-FD41310B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E4B5-09EF-476E-8145-829292E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57BF-0D1F-4E5F-BBAA-8A7E703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3A39-76D0-470F-8194-AB73600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55C-4CA3-4505-B085-CE50575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D3BF-A6F4-4A3B-ABAB-F1F19CE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63DD-B023-4C92-9216-FEB5510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21E0-0765-4BC6-A0B4-95634255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B246-4F2E-4F66-B7E3-CFD48204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019-F822-40DA-972C-23E3B08B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E716-C151-4063-9219-C1A678F2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381C-9434-45D2-910C-9056391F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E179-5F6B-470E-9BE7-B78ACAD4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9708-245B-46CD-9379-2DA70069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0FF3-AAE2-4E1E-AB4A-2CD2BBE9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5F0-D08A-40D1-855C-48003F59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149C-537B-4788-9D1C-864313B6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B7B0-62FD-4609-AACA-95CFC47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9028-858C-48CF-AB9B-4D32A4B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F069-30A0-495D-9B1C-50E894C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ECD1-3F48-483C-9CC1-364BA68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5C1F-61BC-4B95-AA9C-63DEE4A3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9BC9-3050-4F73-A4A0-B232E68C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61A6-B8F9-4AE5-942B-74B7457C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C7C3-69F7-40BD-AD72-96C666C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85D7-C634-459B-B33A-F2B5CFE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97B-12F8-463C-9E19-5EB06DD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3A91-3524-4CDE-8389-0EAC7500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6022-00D9-4512-B08B-6FB045BC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499D-F7EA-42D3-8D84-857FA09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18BA-B8E2-42C3-B697-5410C622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5449-D01E-44F4-9963-0A4FEB5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017D-4723-4ADF-8CB7-D38E9D92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C60C-7C86-45A1-979B-56C5355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1395-B334-4871-A395-E8B006E3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173B7-4E81-42E4-924F-D265E7A0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655A-884E-4B86-B1B1-572CF648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815-DFF6-4970-9854-41553C90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0712-6C54-4B76-89E1-01E399AA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5076-447B-4BE6-A130-9BEE0E50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1F77-486C-4278-8F6F-6619169C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E108-5301-4342-8BD4-492E9649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1FC3-539A-4540-AB83-E965C310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2D9C-5882-4B55-8EE2-292C387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19A77-F49A-4A12-A0DA-0234469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E2FE-1F13-479B-A5C0-3674324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3A93-4829-4E3C-A4E8-85BEB72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800F-40C8-4BD4-A23A-755E4FD4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FE7-0C49-4840-B53A-CCB79A79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CD5F-CEF1-4B03-8FE5-63E1273A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57920-B75B-49FE-8426-7F2B56B0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4CF4-D447-48B7-A099-4E88CA82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A766-944C-4901-8541-FDDC25DA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E9B2A-D793-4227-A998-8C8365F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812B6-CE2E-4D28-9634-7D89F03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720C5-3C7D-4F78-9F31-5B5032DB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C22A8-689E-4B96-967D-F85BDA7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BA83E-54DC-452A-B3D3-F549217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3D4E9-ADD1-41B3-B16D-B3801994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0B4-3A2F-411A-84A3-B3DDC7B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4542E-A4E7-4DF0-87F1-AE13045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171B-8C9E-4F35-96F7-879973EB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E228-257C-4896-BF11-10760C13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18B2-0D24-4893-A7DC-DBABE7D5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51B6E-4F07-4A23-84B9-2FDF31D6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D0FCD-6F2A-42FF-B853-F9E181D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FA1B3-2D9E-43C8-B5B1-A31963F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DD70B-9E16-4CBB-80AB-4988C75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927A-9EE2-482C-B45B-2ABC796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29E7-1085-48AE-9133-14E823B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E29-5297-47CA-A5C1-624A7AC5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A9911-C379-4514-8A82-6706102F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A04BA-E07D-489F-8F48-EC2973C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6F1D-9A87-4C5F-814B-1274655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EADB-E141-4432-93B6-F7EED102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6110-B920-430F-BA8C-BC65F0A5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A26AF-12BC-4E55-934F-E5496665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472D3-44DB-404B-99ED-DF54A956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5FF8E-6446-4A8C-AF88-ECF9DED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EFF48-DBB0-45A1-B3F0-5D6B397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73400-989D-427E-947C-F6F9F5E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030-F5A5-4764-87F5-80497AC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AE44-B0D6-4680-B26A-3C9DA02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BFBBC-74D6-480A-89A7-5948345D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117D-3D64-4961-AB70-542169E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56B61-9867-412E-B72B-23704D3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55755-8903-4FBD-9CC8-57A00D4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4C6AB-F34F-4BCD-8B28-076B2542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12F02-D823-4CCB-981E-B701E069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860D-8CC1-4177-865E-DA3EC020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10646-B916-4F79-A832-996045C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82B83-EDAB-44B3-B412-B81EF3F9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D81E-9456-4292-B450-ABE800BA0F3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B2F-5441-4E5D-9177-E80977ED31D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EC8D-6376-4EEA-8BDB-7D92F8A6BCE4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539A-FAE5-410E-997A-C6504E4810B1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14D2-D219-42AF-A77F-BF64A342F0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909C-F84C-4A00-AEF4-3C73EFC291F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6FC2-5BB8-49B1-8558-AA6C64C3E81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E5DB-5BCD-48A8-BDE9-4B4456EE5D0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6FE1-E392-47B8-8248-46B9944492B4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BEE-CAAD-4BB9-9E14-527F3EC87FB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F3A-649C-42B9-9048-F08000B6A15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9CD-EFFF-4CCE-AB92-DBBE56CC60B9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interactiveds.com.au/software.html" TargetMode="External"/><Relationship Id="rId2" Type="http://schemas.openxmlformats.org/officeDocument/2006/relationships/hyperlink" Target="http://newtonexcelbach.wordpress.com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nalysis and Design of Arch Structures for the Oman Southern Expressw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714240" y="38577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oug Jenkins - Interactive Desig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66"/>
                </a:solidFill>
                <a:latin typeface="Arial"/>
              </a:rPr>
              <a:t>Generate mesh – run analysi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8916840" cy="492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Or for non standard projects – transfer mesh to general purpose FEA – Strand7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039240" cy="5214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Generated mesh; needs some work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004320" cy="5286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428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nvert arch plate elements to beam elements on section CL + offset elements</a:t>
            </a:r>
            <a:br>
              <a:rPr sz="3200"/>
            </a:b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Subdivide long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357200" y="1924200"/>
            <a:ext cx="6543720" cy="4933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428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nvert arch/soil friction elements to friction contact elements + master/slave link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2857680" y="1571760"/>
            <a:ext cx="4190760" cy="510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374652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Split elements at construction layers;</a:t>
            </a:r>
            <a:br>
              <a:rPr sz="3200"/>
            </a:b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insert links; </a:t>
            </a:r>
            <a:br>
              <a:rPr sz="3200"/>
            </a:b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assign elements of each layer to a separate group; separate fully fixed freedom case for each laye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4191120" cy="5108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792972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Apply compaction loads to each layer as a separate load case, and live loads to the top surfa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43000" y="2786040"/>
            <a:ext cx="7257960" cy="357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Adjust model as require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5786640" cy="552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mpleted mod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085320" cy="4857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Double Arch Mod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-47520" y="1714680"/>
            <a:ext cx="9191520" cy="40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man Southern Express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mbankment up to 34 metres high over arch culverts of 20 m and 15 m sp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ighest fill over a large sp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sign challenge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nalysis and design of the arch profile to minimise bending moments and shear forces in the structure under very high soil l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sign and detailing of skewed structures for asymmetric l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sign of raft foundations for very high imposed l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nalysis and design of double arch stru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Set up analysis control paramete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7753320" cy="592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nstruction Sequen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66360" cy="492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Load Facto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8775720" cy="44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Plate Properti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209520" y="2143080"/>
            <a:ext cx="8934480" cy="2254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Run the analysi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630360" y="1714680"/>
            <a:ext cx="7883280" cy="342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Run the analysi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6591240" cy="521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View results in Strand7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665920" cy="3857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Import and analyse results in Exc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0" y="1357200"/>
            <a:ext cx="8858160" cy="5092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Plot Results and Member Capacities; Bending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000080" y="1114560"/>
            <a:ext cx="7020000" cy="5743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Reinforcement stress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7338960" cy="54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visions for high axial 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kew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win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aft fou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arison with alternative arch sh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commendations for structures under high f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rack widt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000920" cy="5591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Shear Forc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667560" cy="5162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Moment/Axial Force Interaction Diagr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667560" cy="5229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Shear Force/Axial Force Interaction Diagr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667560" cy="5295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3D Analysi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7574040" cy="5500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3D Analysis – using groups to create section view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496280" cy="565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3D Analysis – using groups to create section view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9115560" cy="5072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omparison with other arch shap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929360" cy="529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omparison with other arch shap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7696080" cy="5143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omparison with other arch shapes – flat ellips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6919920" cy="5357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roject Descrip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5 km long highway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cludes 7 large precast arch underpass structures, designed and supplied by Freyssinet Internat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ch sections: 15m x 7.5m and 20m x 10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ximum fill height increased from 24m to 34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erraced retaining walls over the a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veral skew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uble arches under the highest f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RECOMMENDATIONS FOR ARCH STRUCTURES UNDER HIGH FILL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igh axial loa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ffected by the stiffness of the foundation soils and the type of foundation system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clude the foundation soils in the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on-optimised arch profiles may give rise to very high bending moments and shear forc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lat elliptical profiles are particularly unsuited to high fi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nsider lower and upper bound stiffness parameters for both soil and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ignificant savings to raft foundations by adjusting the depth of the slab between the footing sections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ongitudinal effects may be signific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mbankments with steep side slopes or high retaining wall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tructures on steep slop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tructures on soft or variable foundation soi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80802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66"/>
                </a:solidFill>
                <a:latin typeface="Arial"/>
              </a:rPr>
              <a:t>More Information a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1320" y="2786040"/>
            <a:ext cx="8072280" cy="3929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interactiveds.com.au/software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://newtonexcelbach.wordpress.co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Typical 20m span double ar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42600" y="1285920"/>
            <a:ext cx="8001000" cy="5286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D, plane strain, F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del the arch, foundations and backfill within the zone of influence of the ar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asto-plastic soil model; soil stiffness and Poisson’s ratio related to confining pres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il loads are applied in stages reflecting the sequence of filling employed 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d fill layer, then apply and remove a compaction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iction elements between the arch and the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concrete is modelled as linear ela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Set up basic arc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479600" y="1000080"/>
            <a:ext cx="6269040" cy="585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Mesh Geomet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616880" cy="536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66"/>
                </a:solidFill>
                <a:latin typeface="Arial"/>
              </a:rPr>
              <a:t>Mesh Options, Material Properties, Loads, Paramet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428920" y="1285920"/>
            <a:ext cx="4838760" cy="5000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3:09:02Z</dcterms:created>
  <dc:creator>Doug</dc:creator>
  <dc:description/>
  <dc:language>en-US</dc:language>
  <cp:lastModifiedBy>Doug</cp:lastModifiedBy>
  <dcterms:modified xsi:type="dcterms:W3CDTF">2009-05-27T20:58:36Z</dcterms:modified>
  <cp:revision>83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032931033</vt:lpwstr>
  </property>
</Properties>
</file>